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CE81-BF5D-402E-8AE3-666C357A2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6657-445C-40C5-B0E8-DDFAE950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B2D0-8A74-4112-8E9E-0FCF69F1E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7DF0-D03B-4596-A946-82E778713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A12B-5B64-49F7-934F-98F32C13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9C5F-EA13-4203-9EB2-D4977CFA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0848-7134-4935-B028-90073068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F469-EA98-40A4-8554-38BBE6FE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C60D-7ABA-4735-9ACD-95AD8E98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9C39-DBDB-4636-BCA7-0134079D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D7F1-7B71-4C76-8156-B03EA58F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916A-0137-49BE-9F8A-286D54E8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6010-478E-48DB-B4B3-75417583C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and contrast the theme of World War 2 casualties in the poems: “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Casualties Were Small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“ A Beach in France”.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, you need a thesis, evidence, as well as strong grammar and good spel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00:42:37Z</dcterms:created>
  <dc:creator>nmt</dc:creator>
  <dc:description/>
  <dc:language>en-US</dc:language>
  <cp:lastModifiedBy>nmt</cp:lastModifiedBy>
  <dcterms:modified xsi:type="dcterms:W3CDTF">2012-03-23T00:44:33Z</dcterms:modified>
  <cp:revision>1</cp:revision>
  <dc:subject/>
  <dc:title>Homework</dc:title>
</cp:coreProperties>
</file>